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000E56A-F071-4A95-B277-002042A713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81000" y="382680"/>
            <a:ext cx="49071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3  TTÜ   T.Tammet   loeng 3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7B4988C-A4D8-4E97-A43B-B56E83AA7DEF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clark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XML baaskursus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ML väljanäitamine kasutajal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LT sissejuhatu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käsurealt käivitamis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i/unixi käsurea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proc  xslfail.xsl xmlfail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trükib välja teisendatud fail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proc  xslfail.xsl xmlfail.xml &gt; uusfail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salvestab teisendatud faili nimega uusfail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proc teisendab ühe tüüpilise suurusega xml/html lehe hariliku 2 Ghz protsessoriga masinal umbes 0.001 sekundiga: sobib kujundusmootori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ga suurte datafailide / xslfailide puhul hakkab teisendamine oluliselt rohkem aega võtma: ei sobi päringumootori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2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 põhiid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8760" y="990360"/>
            <a:ext cx="8879040" cy="58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on nn template-keel, nagu PHP ja JSP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faili sisu ongi teisenduse tulemus!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faili saab sisse panna xsl-keelseid elemente, mis asendatakse lähtefaili juppidega (alltoodud näites ühtegi sellist elementi pol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lt PHP-st ja JSP-st ei ole xsl mõeldud programmide kirjutamiseks, kuigi ka see on põhimõtteliselt võimalik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kõik, mis xml failile järgmi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ail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akendada, tulemus on sam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xmlns:xsl="http://www.w3.org/1999/XSL/Transform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BODY&gt;Welcome!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3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66560" y="5641920"/>
            <a:ext cx="397548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Bitstream Vera Sans"/>
                <a:ea typeface="msgothic"/>
              </a:rPr>
              <a:t>Paksu kirjaga tekst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Bitstream Vera Sans"/>
                <a:ea typeface="msgothic"/>
              </a:rPr>
              <a:t>teisenduse tule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503240" y="5541840"/>
            <a:ext cx="10782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3800" y="4335480"/>
            <a:ext cx="3527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Bitstream Vera Sans"/>
                <a:ea typeface="msgothic"/>
              </a:rPr>
              <a:t>Xsl keele nimi (u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29160" y="3709800"/>
            <a:ext cx="1859040" cy="77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brauseri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lvestame eelmise faili nimega fitnesscenter.xsl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lvestame xml-data-faili nimega: fitnesscenter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-stylesheet type="text/xsl" href=fitnesscenter.xsl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eff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m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55-1234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ork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55-4321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ghtgrey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Membe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nüüd see fail brauseriga avada (Mozilla või MS IE), siis kuvatakse xsl failis olev html, st tekst “Welcome!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4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 flipV="1">
            <a:off x="6580080" y="2575080"/>
            <a:ext cx="1322640" cy="17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4800" y="4384800"/>
            <a:ext cx="1830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öötluskä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rauseri ja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asendus xsl fai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609040" cy="55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nii, et html-s oleks näha vastava isiku (Member element) nime (Name element) tekstiandmed xml faili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 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ns:xsl="http://www.w3.org/1999/XSL/Transform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47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flipV="1">
            <a:off x="3551400" y="4858920"/>
            <a:ext cx="1676160" cy="9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05560" y="4946760"/>
            <a:ext cx="3214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alt võetakse asend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041440" y="4749840"/>
            <a:ext cx="51588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3120" y="5764320"/>
            <a:ext cx="3126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uskäsk xsl kee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68560" y="3529080"/>
            <a:ext cx="69876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6280" y="3174840"/>
            <a:ext cx="2771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PATH keeles aval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enduse tulemus rehkendatakse n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88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XML datafail  oli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-stylesheet type="text/xsl" href=fitnesscenter.xsl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eff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o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1234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ork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4321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ghtgrey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sendatav avaldis XSL failis oli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Jeff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58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 flipV="1">
            <a:off x="3173400" y="2941200"/>
            <a:ext cx="3006720" cy="220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466800" y="5592600"/>
            <a:ext cx="51588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8800" y="5850000"/>
            <a:ext cx="5013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PATH on analoogiline kataloogipu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enduse tulemus 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useris näeme “Welcome Jeff!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 source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Jeff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6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kstide võtmine xml datafail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 datateksti xml-st, kasutades elementi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value-of select="…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vigeerimine xml datafaili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lash ("/") näitab vanem/laps suh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 alguses olev slash näitab, et tegu on absoluutteega (st. algab xml datafaili juurelemendis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162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ee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  /FitnessCenter/Member/Nam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tähendab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usta dokumendi juurelemendist (algusest), otsi kohe selle al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lement FitnessCenter, siis selle alt Member, siis selle al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ame, siis võta selle elemendi väärt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7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H="1" flipV="1">
            <a:off x="4188960" y="1965240"/>
            <a:ext cx="1430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69640" y="2332080"/>
            <a:ext cx="1346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e (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21240" y="174600"/>
            <a:ext cx="1130040" cy="903240"/>
          </a:xfrm>
          <a:custGeom>
            <a:avLst/>
            <a:gdLst/>
            <a:ahLst/>
            <a:rect l="l" t="t" r="r" b="b"/>
            <a:pathLst>
              <a:path w="3140" h="2509">
                <a:moveTo>
                  <a:pt x="1568" y="0"/>
                </a:moveTo>
                <a:lnTo>
                  <a:pt x="1202" y="958"/>
                </a:lnTo>
                <a:lnTo>
                  <a:pt x="0" y="958"/>
                </a:lnTo>
                <a:lnTo>
                  <a:pt x="976" y="1556"/>
                </a:lnTo>
                <a:lnTo>
                  <a:pt x="609" y="2508"/>
                </a:lnTo>
                <a:lnTo>
                  <a:pt x="1568" y="1925"/>
                </a:lnTo>
                <a:lnTo>
                  <a:pt x="2528" y="2508"/>
                </a:lnTo>
                <a:lnTo>
                  <a:pt x="2161" y="1556"/>
                </a:lnTo>
                <a:lnTo>
                  <a:pt x="3139" y="958"/>
                </a:lnTo>
                <a:lnTo>
                  <a:pt x="1935" y="958"/>
                </a:lnTo>
                <a:lnTo>
                  <a:pt x="1568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87840" y="482760"/>
            <a:ext cx="1055520" cy="453960"/>
            <a:chOff x="3687840" y="482760"/>
            <a:chExt cx="1055520" cy="453960"/>
          </a:xfrm>
        </p:grpSpPr>
        <p:sp>
          <p:nvSpPr>
            <p:cNvPr id="177" name=""/>
            <p:cNvSpPr/>
            <p:nvPr/>
          </p:nvSpPr>
          <p:spPr>
            <a:xfrm>
              <a:off x="3790800" y="482760"/>
              <a:ext cx="8496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87840" y="482760"/>
              <a:ext cx="105552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39800" y="1463760"/>
            <a:ext cx="1735200" cy="639720"/>
          </a:xfrm>
          <a:custGeom>
            <a:avLst/>
            <a:gdLst/>
            <a:ahLst/>
            <a:rect l="l" t="t" r="r" b="b"/>
            <a:pathLst>
              <a:path w="4821" h="1778">
                <a:moveTo>
                  <a:pt x="2409" y="0"/>
                </a:moveTo>
                <a:lnTo>
                  <a:pt x="4820" y="888"/>
                </a:lnTo>
                <a:lnTo>
                  <a:pt x="2409" y="1777"/>
                </a:lnTo>
                <a:lnTo>
                  <a:pt x="0" y="888"/>
                </a:lnTo>
                <a:lnTo>
                  <a:pt x="2409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7480" y="1482840"/>
            <a:ext cx="2017080" cy="453960"/>
            <a:chOff x="627480" y="1482840"/>
            <a:chExt cx="2017080" cy="453960"/>
          </a:xfrm>
        </p:grpSpPr>
        <p:sp>
          <p:nvSpPr>
            <p:cNvPr id="181" name=""/>
            <p:cNvSpPr/>
            <p:nvPr/>
          </p:nvSpPr>
          <p:spPr>
            <a:xfrm>
              <a:off x="822240" y="1482840"/>
              <a:ext cx="16272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7480" y="1482840"/>
              <a:ext cx="20170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&lt;?xml version=“1.0”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80240" y="147960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07880" y="1509840"/>
            <a:ext cx="1235160" cy="453960"/>
            <a:chOff x="6707880" y="1509840"/>
            <a:chExt cx="1235160" cy="453960"/>
          </a:xfrm>
        </p:grpSpPr>
        <p:sp>
          <p:nvSpPr>
            <p:cNvPr id="185" name=""/>
            <p:cNvSpPr/>
            <p:nvPr/>
          </p:nvSpPr>
          <p:spPr>
            <a:xfrm>
              <a:off x="6815160" y="1509840"/>
              <a:ext cx="10206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7880" y="1509840"/>
              <a:ext cx="123516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Fitness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903840" y="2635200"/>
            <a:ext cx="105696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004280" y="2665440"/>
            <a:ext cx="884880" cy="453960"/>
            <a:chOff x="4004280" y="2665440"/>
            <a:chExt cx="884880" cy="453960"/>
          </a:xfrm>
        </p:grpSpPr>
        <p:sp>
          <p:nvSpPr>
            <p:cNvPr id="189" name=""/>
            <p:cNvSpPr/>
            <p:nvPr/>
          </p:nvSpPr>
          <p:spPr>
            <a:xfrm>
              <a:off x="4084560" y="2665440"/>
              <a:ext cx="72396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4280" y="266544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Member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23960" y="911160"/>
            <a:ext cx="566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17840" y="917640"/>
            <a:ext cx="14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05840" y="930240"/>
            <a:ext cx="14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25840" y="2292480"/>
            <a:ext cx="2932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35560" y="2313000"/>
            <a:ext cx="14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35080" y="362268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35520" y="3652920"/>
            <a:ext cx="884880" cy="453960"/>
            <a:chOff x="1235520" y="3652920"/>
            <a:chExt cx="884880" cy="453960"/>
          </a:xfrm>
        </p:grpSpPr>
        <p:sp>
          <p:nvSpPr>
            <p:cNvPr id="198" name=""/>
            <p:cNvSpPr/>
            <p:nvPr/>
          </p:nvSpPr>
          <p:spPr>
            <a:xfrm>
              <a:off x="1316160" y="3652920"/>
              <a:ext cx="7236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35520" y="365292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874960" y="363528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5760" y="3665520"/>
            <a:ext cx="884880" cy="453960"/>
            <a:chOff x="2975760" y="3665520"/>
            <a:chExt cx="884880" cy="453960"/>
          </a:xfrm>
        </p:grpSpPr>
        <p:sp>
          <p:nvSpPr>
            <p:cNvPr id="202" name=""/>
            <p:cNvSpPr/>
            <p:nvPr/>
          </p:nvSpPr>
          <p:spPr>
            <a:xfrm>
              <a:off x="3056040" y="3665520"/>
              <a:ext cx="72396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5760" y="366552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Ph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816440" y="361008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17240" y="3639960"/>
            <a:ext cx="884880" cy="454320"/>
            <a:chOff x="4917240" y="3639960"/>
            <a:chExt cx="884880" cy="454320"/>
          </a:xfrm>
        </p:grpSpPr>
        <p:sp>
          <p:nvSpPr>
            <p:cNvPr id="206" name=""/>
            <p:cNvSpPr/>
            <p:nvPr/>
          </p:nvSpPr>
          <p:spPr>
            <a:xfrm>
              <a:off x="4997520" y="3639960"/>
              <a:ext cx="72396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17240" y="363996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Ph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593040" y="3622680"/>
            <a:ext cx="105696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550200" y="3652920"/>
            <a:ext cx="1174320" cy="453960"/>
            <a:chOff x="6550200" y="3652920"/>
            <a:chExt cx="1174320" cy="453960"/>
          </a:xfrm>
        </p:grpSpPr>
        <p:sp>
          <p:nvSpPr>
            <p:cNvPr id="210" name=""/>
            <p:cNvSpPr/>
            <p:nvPr/>
          </p:nvSpPr>
          <p:spPr>
            <a:xfrm>
              <a:off x="6618240" y="3652920"/>
              <a:ext cx="103824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0200" y="3652920"/>
              <a:ext cx="117432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FavoriteCol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633680" y="3378240"/>
            <a:ext cx="549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7200" y="3371760"/>
            <a:ext cx="144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1360" y="3394080"/>
            <a:ext cx="180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51400" y="3376440"/>
            <a:ext cx="180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2960" y="3384720"/>
            <a:ext cx="180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4920" y="4624560"/>
            <a:ext cx="80820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1160" y="3137040"/>
            <a:ext cx="144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32840" y="1987560"/>
            <a:ext cx="14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28400" y="4745160"/>
            <a:ext cx="561600" cy="453960"/>
            <a:chOff x="1328400" y="4745160"/>
            <a:chExt cx="561600" cy="453960"/>
          </a:xfrm>
        </p:grpSpPr>
        <p:sp>
          <p:nvSpPr>
            <p:cNvPr id="221" name=""/>
            <p:cNvSpPr/>
            <p:nvPr/>
          </p:nvSpPr>
          <p:spPr>
            <a:xfrm>
              <a:off x="1370160" y="4745160"/>
              <a:ext cx="47772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8400" y="4745160"/>
              <a:ext cx="56160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Je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601640" y="4129200"/>
            <a:ext cx="18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1120" y="466236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67480" y="4782960"/>
            <a:ext cx="919800" cy="454320"/>
            <a:chOff x="2967480" y="4782960"/>
            <a:chExt cx="919800" cy="454320"/>
          </a:xfrm>
        </p:grpSpPr>
        <p:sp>
          <p:nvSpPr>
            <p:cNvPr id="226" name=""/>
            <p:cNvSpPr/>
            <p:nvPr/>
          </p:nvSpPr>
          <p:spPr>
            <a:xfrm>
              <a:off x="3044880" y="4782960"/>
              <a:ext cx="76500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7480" y="4782960"/>
              <a:ext cx="91980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555-12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17840" y="4167360"/>
            <a:ext cx="18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46760" y="461952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891680" y="4740120"/>
            <a:ext cx="919800" cy="454320"/>
            <a:chOff x="4891680" y="4740120"/>
            <a:chExt cx="919800" cy="454320"/>
          </a:xfrm>
        </p:grpSpPr>
        <p:sp>
          <p:nvSpPr>
            <p:cNvPr id="231" name=""/>
            <p:cNvSpPr/>
            <p:nvPr/>
          </p:nvSpPr>
          <p:spPr>
            <a:xfrm>
              <a:off x="4968720" y="4740120"/>
              <a:ext cx="76536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91680" y="4740120"/>
              <a:ext cx="91980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555-43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343480" y="4124160"/>
            <a:ext cx="180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34160" y="4632480"/>
            <a:ext cx="80820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709680" y="4753080"/>
            <a:ext cx="861840" cy="453960"/>
            <a:chOff x="6709680" y="4753080"/>
            <a:chExt cx="861840" cy="453960"/>
          </a:xfrm>
        </p:grpSpPr>
        <p:sp>
          <p:nvSpPr>
            <p:cNvPr id="236" name=""/>
            <p:cNvSpPr/>
            <p:nvPr/>
          </p:nvSpPr>
          <p:spPr>
            <a:xfrm>
              <a:off x="6773760" y="4753080"/>
              <a:ext cx="73368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9680" y="4753080"/>
              <a:ext cx="86184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light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130880" y="4137120"/>
            <a:ext cx="18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0400" y="741240"/>
            <a:ext cx="2363760" cy="63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17720" y="1816200"/>
            <a:ext cx="2071800" cy="72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077920" y="2944800"/>
            <a:ext cx="173520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ine asendus xsl fai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609040" cy="55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nii, et html-i taustvärv oleks vastava isiku (Member element) lemmikvärvi (FavoriteColor)  tekstiandmed xml faili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 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ns:xsl="http://www.w3.org/1999/XSL/Transform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4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 flipV="1">
            <a:off x="3430080" y="4443120"/>
            <a:ext cx="1614600" cy="9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90840" y="5202360"/>
            <a:ext cx="35744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elistes sulg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tribuudi sisu asendatak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507000" y="3174840"/>
            <a:ext cx="968400" cy="9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09920" y="2820960"/>
            <a:ext cx="2771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PATH keeles aval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enduse tu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113680" cy="59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Atribuudi tekst ei tohi sisaldada &lt; või &gt;, seeg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 lubat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ody bgcolor="&lt;xsl:value-of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elect='/FitnessCenter/Member/FavoriteColor'/&gt;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ribuutide asenduseks xsl abil on mitu viisi, loogeliste sulgudega süntaks on ainult üks alternatii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mise xsl-asenduse tulemuseks saadav HTML source on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 bgcolor=”lightgrey”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Jeff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54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ja styleshee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XML teksti kasutajale näid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zilla/Netscape ja MS IE näitavad XML-i välja nö tehnilisel viisi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54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1"/>
          <a:srcRect l="-103" t="-89" r="0" b="0"/>
          <a:stretch/>
        </p:blipFill>
        <p:spPr>
          <a:xfrm>
            <a:off x="527040" y="1709640"/>
            <a:ext cx="8437680" cy="506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lmas asendus xsl fai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609040" cy="58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-3279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nii, et html-s oleks näha vastava isiku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du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elefoninumb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 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ns:xsl="http://www.w3.org/1999/XSL/Transform"  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Your home phone number i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       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59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6008760" y="5065560"/>
            <a:ext cx="41436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22320" y="5470560"/>
            <a:ext cx="406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ib Phone elemendi, millel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ype=”home” atrib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u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24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-avaldise lõpus olev klambrites avaldis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valib mitme võimaliku elemendi (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u Phone elementi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sellise, mis klapib predikaadig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     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juures @ tähendab, et type on atribuu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ct-avaldises on jutumärkide “ sees apostroofid '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K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sees olev html peab olema suletud tagidega xhtml, seega &lt;br&gt; ilma &lt;/br&gt; ei ole OK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 &lt;br/&gt; asendatakse automaatselt elemendiks &lt;br&gt; tulemus-html-s, kui xsl-i tulemus on html, st on antu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6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süklid xsl-s: for-eac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member-il võib olla mitu telefoni, teeme nüüd tulemus-htmli tema telefoninumbrite tabel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 ... numbritüüp ... &lt;/td&gt;&lt;td&gt; ... number ... 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 ... &lt;/td&gt;&lt;td&gt; ...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sisaldab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-ea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sku, mis teeb tsükli üle kõigi leitud sobivate elementide, olgu neid siis null, üks, kümme või kuitahes palju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-each atribuu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ec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lib kõik sobivad elemend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7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tsükli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8400" y="990720"/>
            <a:ext cx="8985240" cy="59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stylesheet xmlns:xsl="http://www.w3.org/1999/XSL/Transform"  version="1.0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TML&gt;&lt;HEAD&gt;&lt;TITLE&gt;Welcome!&lt;/TITLE&gt;&lt;/HEA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 Your phone numbers ar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ABLE border="1" width="25%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R&gt;&lt;TH&gt;Type&lt;/TH&gt;&lt;TH&gt;Number&lt;/TH&gt;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for-each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@typ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.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7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: suhtelised t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sükli sees kasutati suhtelisi teid (path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xsl:for-each select="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/FitnessCenter/Member/Phon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 -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 “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@type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on predikaat sellel elemendil, kus m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etkel oleme: see muutub tsükli see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muti, tee  “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 viitab elemendile, kus me hetkel olem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muutub tsükli sees.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8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ingimused/valikud xsl-s: (if test ...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1000" y="990360"/>
            <a:ext cx="8853480" cy="653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endame oma xsl-i nii, et ainult plaatina-tasemel liikmetele teeme html-s pakkumise (st siis, kui on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stylesheet xmlns:xsl="http://www.w3.org/1999/XSL/Transform" version="1.0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TML&gt;&lt;HEAD&gt;&lt;TITLE&gt;Welcome!&lt;/TITLE&gt;&lt;/HEA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if tes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@level='platinum'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ur special offer to platinum members today is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/xsl:if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 Your phone numbers ar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8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lementide võtmine mujalt dokumend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8520" y="990720"/>
            <a:ext cx="84265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endame loodud html tabelit, lisades nime tulba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im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d&gt;&lt;td&gt;numbritüüp&lt;/td&gt;&lt;td&gt; number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 ... &lt;/td&gt;&lt;td&gt; ... &lt;/td&gt;&lt;td&gt; ...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i on väljaspoo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ement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eff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o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1234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ork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4321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ghtgrey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hone elemendist saame minn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./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abil tema vanema (Member) juurde ja sealt juba Name juurde: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./Nam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9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tagasimineva pathiga (Name juurde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5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 Your phone numbers ar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ABLE border="1" width="25%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H&gt;Name&lt;/TH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H&gt;Type&lt;/T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H&gt;Number&lt;/T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for-each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..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@typ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.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9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isi viise brauseri xsl protsessori käivitamis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pool vaadatud viis xsl faili töötlemiskäsu lisamisega xml-andmefaili ei pruugi brauseris alati sobi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lisele XML datafailile ei pruugi me kuigi mugavalt saada (tahta) töötlemiskäsku lis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rea/teegifunktsioonide puhul pole töötluskäsku vaj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zilla/Netscape võimaldavad käivitada xsl protsessorit ka javascripti funktsioonidega ht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 IE võimaldavad käivitada xsl protsessorit nii javascripti kui vbscripti funktsioonidega ht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38080" y="379440"/>
            <a:ext cx="7770960" cy="488880"/>
            <a:chOff x="838080" y="379440"/>
            <a:chExt cx="7770960" cy="488880"/>
          </a:xfrm>
        </p:grpSpPr>
        <p:sp>
          <p:nvSpPr>
            <p:cNvPr id="301" name=""/>
            <p:cNvSpPr/>
            <p:nvPr/>
          </p:nvSpPr>
          <p:spPr>
            <a:xfrm>
              <a:off x="838080" y="86040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607600" y="379440"/>
              <a:ext cx="1440" cy="488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ja xsl eraldi käivitus Mozilla/I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 examplexsltop.html sobib nii Mozilla kui MS IE jao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xsltop.html on html-peafail, sisaldab javascrip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vascipt kontrollib, millise brauseriga teg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xsltop.xml on xml datafail ilma töötluskäsu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xsltop.xsl on xsl fa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 kasutab lisaks varemvaadatule ve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rteerimis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oose konstruktsioon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muutuja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38080" y="379440"/>
            <a:ext cx="7770960" cy="488880"/>
            <a:chOff x="838080" y="379440"/>
            <a:chExt cx="7770960" cy="488880"/>
          </a:xfrm>
        </p:grpSpPr>
        <p:sp>
          <p:nvSpPr>
            <p:cNvPr id="306" name=""/>
            <p:cNvSpPr/>
            <p:nvPr/>
          </p:nvSpPr>
          <p:spPr>
            <a:xfrm>
              <a:off x="838080" y="86040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8607600" y="379440"/>
              <a:ext cx="1440" cy="488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XML-i paremini näid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misel slaidil toodud viis on pingutustega loetav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b arendustöö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sobi lõppkasutaja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 “ilusaks väljanäitamiseks” on kolm põhiviis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S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scading style sheets fail, a la html kujunda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 failis saab öelda, kuidas mingit elementi visuaalselt näidata: värvid, font, paigutus. Tugi Mozillas ja IE-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i teisendamine HTML-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failis olevate teisendusreeglitega teisendatakse XML harilikuks html-ks ja näidatakse seda. Tugi Mozillas ja IE-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-FO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i teisendamine spetsiaalsesse kujunduskeel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O on spetsiaalne XML süntaksiga kujunduskeel, võimas ja keerul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gi hetkel (2003) nõrk, mh brauserid ei toe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6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ja MS IE XSL käivitus vbscript ab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 xmlxslexample.html sobib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MS IE jao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xslexample.html on html-peafail, sisaldab vbscrip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chedule.xml on xml datafail ilma töötluskäsu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llapsed.xsl on xsl fail lühema info-näitamis-stiil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panded.xsl näitab kogu info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 xsl failid ei kasuta ülds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....&gt; elemen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...&gt; elemen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...&gt; elemen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38080" y="379440"/>
            <a:ext cx="7770960" cy="488880"/>
            <a:chOff x="838080" y="379440"/>
            <a:chExt cx="7770960" cy="488880"/>
          </a:xfrm>
        </p:grpSpPr>
        <p:sp>
          <p:nvSpPr>
            <p:cNvPr id="311" name=""/>
            <p:cNvSpPr/>
            <p:nvPr/>
          </p:nvSpPr>
          <p:spPr>
            <a:xfrm>
              <a:off x="838080" y="86040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8607600" y="379440"/>
              <a:ext cx="1440" cy="488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idi CSS-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4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 on omaette, mitte-XML-süntaksiga keel, mis on kujunenud HTML kujundamise standardiks brauserit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 failis saab öelda, kuidas HTML tagi sees olevat teksti näidata: värvid, fondid, paigutus j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 tagidele saab lisada klassi nime, ning CSS-s saab öelda, kuidas seda klassi välja näidata (tagi nimest sõltumatult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-i saab ka XML-le külge pan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gi XML+CSS on brauserites olemas, kuid mitte väga he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blee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ss ei võimalda XML teksti veidi muuta, ümber järjestada jne. Reeglina ei sobi päris hästi  “toore XML data” väljanäit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6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+XML näide: ava brauseris xml fail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fail raamatud.xm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-stylesheet type="text/css" href="raamatud1.css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raamatu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autor&gt;A. H. Tammsaare&lt;/auto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pealkiri&gt;Põrgupõhja uus vanapagan&lt;/pealkiri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ind currency="EEK"&gt;125.20&lt;/hin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autor&gt;C. Bukowski&lt;/auto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pealkiri&gt;Women&lt;/pealkiri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ind currency="EUR"&gt;11.10&lt;/hin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raamatu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1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SS fail raamatud1.cs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ODY { margin: 10px; color: black; font-family: Arial, Helvetica,sans-serif; }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aamat { color:blue; padding: 10px; }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utor { color:black; font-weight:bold;}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7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T on palju võimsam keel, kui 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T:  Xml stylesheet transformation languag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reeglina kasutatakse XML-i kuvamiseks kasutajale hoopis XSLT stylesheete.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+XSLT tugi on brauserites olemas, a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amasti tehakse teisendus kohe serveris, mitte brauseris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lt css-st on XSLT ise ka XML süntaksi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SLT on palju universaalsem vahend, kui ainult XML-i väljanäitamise abivahend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T on üldine reeglikeel XML tekstide teis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abil saab XML faili teisendada näite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ks HTML faili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suguseks XML failiks (lisades, muutes, sorteerides .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ain-tekst failik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 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7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, XSLT, XPATH, XSL-FO: mis need 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: üldnimetus kogu värgi koht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: teisenduseeglite keel (fokuseerume selle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PATH: xml tekstist mingi lõigu otsimise keel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sisaldab XPATH-i!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O: xml formatting objects - kujundus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Edaspidi kasutame nimetust XSL ainult XSLT+XPATH koh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O-d me ei va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8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1040" y="-90720"/>
            <a:ext cx="776592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 kasutamine: põhimõtted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2973240" y="5127480"/>
            <a:ext cx="3079800" cy="1109880"/>
          </a:xfrm>
          <a:prstGeom prst="roundRect">
            <a:avLst>
              <a:gd name="adj" fmla="val 1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84360" y="5429160"/>
            <a:ext cx="2448360" cy="453960"/>
            <a:chOff x="3384360" y="5429160"/>
            <a:chExt cx="2448360" cy="453960"/>
          </a:xfrm>
        </p:grpSpPr>
        <p:sp>
          <p:nvSpPr>
            <p:cNvPr id="85" name=""/>
            <p:cNvSpPr/>
            <p:nvPr/>
          </p:nvSpPr>
          <p:spPr>
            <a:xfrm>
              <a:off x="3598920" y="5429160"/>
              <a:ext cx="201924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84360" y="5429160"/>
              <a:ext cx="2448360" cy="4442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XSL prots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429080" y="4545000"/>
            <a:ext cx="1800" cy="5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94000" y="3860640"/>
            <a:ext cx="444600" cy="703440"/>
            <a:chOff x="4194000" y="3860640"/>
            <a:chExt cx="444600" cy="703440"/>
          </a:xfrm>
        </p:grpSpPr>
        <p:sp>
          <p:nvSpPr>
            <p:cNvPr id="89" name=""/>
            <p:cNvSpPr/>
            <p:nvPr/>
          </p:nvSpPr>
          <p:spPr>
            <a:xfrm>
              <a:off x="4208400" y="3892680"/>
              <a:ext cx="180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37160" y="4044960"/>
              <a:ext cx="144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4000" y="3860640"/>
              <a:ext cx="428760" cy="184320"/>
            </a:xfrm>
            <a:custGeom>
              <a:avLst/>
              <a:gdLst/>
              <a:ahLst/>
              <a:rect l="l" t="t" r="r" b="b"/>
              <a:pathLst>
                <a:path w="1192" h="511">
                  <a:moveTo>
                    <a:pt x="0" y="0"/>
                  </a:moveTo>
                  <a:lnTo>
                    <a:pt x="109" y="110"/>
                  </a:lnTo>
                  <a:lnTo>
                    <a:pt x="218" y="145"/>
                  </a:lnTo>
                  <a:lnTo>
                    <a:pt x="363" y="182"/>
                  </a:lnTo>
                  <a:lnTo>
                    <a:pt x="508" y="217"/>
                  </a:lnTo>
                  <a:lnTo>
                    <a:pt x="648" y="292"/>
                  </a:lnTo>
                  <a:lnTo>
                    <a:pt x="757" y="400"/>
                  </a:lnTo>
                  <a:lnTo>
                    <a:pt x="867" y="400"/>
                  </a:lnTo>
                  <a:lnTo>
                    <a:pt x="1012" y="435"/>
                  </a:lnTo>
                  <a:lnTo>
                    <a:pt x="1152" y="510"/>
                  </a:lnTo>
                  <a:lnTo>
                    <a:pt x="1191" y="510"/>
                  </a:lnTo>
                  <a:lnTo>
                    <a:pt x="1191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06960" y="4381560"/>
              <a:ext cx="428400" cy="182520"/>
            </a:xfrm>
            <a:custGeom>
              <a:avLst/>
              <a:gdLst/>
              <a:ahLst/>
              <a:rect l="l" t="t" r="r" b="b"/>
              <a:pathLst>
                <a:path w="1191" h="507">
                  <a:moveTo>
                    <a:pt x="0" y="0"/>
                  </a:moveTo>
                  <a:lnTo>
                    <a:pt x="108" y="109"/>
                  </a:lnTo>
                  <a:lnTo>
                    <a:pt x="217" y="144"/>
                  </a:lnTo>
                  <a:lnTo>
                    <a:pt x="362" y="179"/>
                  </a:lnTo>
                  <a:lnTo>
                    <a:pt x="507" y="215"/>
                  </a:lnTo>
                  <a:lnTo>
                    <a:pt x="647" y="290"/>
                  </a:lnTo>
                  <a:lnTo>
                    <a:pt x="756" y="396"/>
                  </a:lnTo>
                  <a:lnTo>
                    <a:pt x="865" y="396"/>
                  </a:lnTo>
                  <a:lnTo>
                    <a:pt x="1010" y="431"/>
                  </a:lnTo>
                  <a:lnTo>
                    <a:pt x="1150" y="506"/>
                  </a:lnTo>
                  <a:lnTo>
                    <a:pt x="1190" y="506"/>
                  </a:lnTo>
                  <a:lnTo>
                    <a:pt x="1190" y="5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95080" y="4108320"/>
            <a:ext cx="517320" cy="302760"/>
            <a:chOff x="4195080" y="4108320"/>
            <a:chExt cx="517320" cy="302760"/>
          </a:xfrm>
        </p:grpSpPr>
        <p:sp>
          <p:nvSpPr>
            <p:cNvPr id="94" name=""/>
            <p:cNvSpPr/>
            <p:nvPr/>
          </p:nvSpPr>
          <p:spPr>
            <a:xfrm>
              <a:off x="4219560" y="4108320"/>
              <a:ext cx="46836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5080" y="4108320"/>
              <a:ext cx="517320" cy="30276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763640" y="5211720"/>
            <a:ext cx="444600" cy="703440"/>
            <a:chOff x="1763640" y="5211720"/>
            <a:chExt cx="444600" cy="703440"/>
          </a:xfrm>
        </p:grpSpPr>
        <p:sp>
          <p:nvSpPr>
            <p:cNvPr id="97" name=""/>
            <p:cNvSpPr/>
            <p:nvPr/>
          </p:nvSpPr>
          <p:spPr>
            <a:xfrm>
              <a:off x="1778040" y="5243400"/>
              <a:ext cx="14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6800" y="5396040"/>
              <a:ext cx="144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63640" y="5211720"/>
              <a:ext cx="428760" cy="184320"/>
            </a:xfrm>
            <a:custGeom>
              <a:avLst/>
              <a:gdLst/>
              <a:ahLst/>
              <a:rect l="l" t="t" r="r" b="b"/>
              <a:pathLst>
                <a:path w="1192" h="511">
                  <a:moveTo>
                    <a:pt x="0" y="0"/>
                  </a:moveTo>
                  <a:lnTo>
                    <a:pt x="109" y="110"/>
                  </a:lnTo>
                  <a:lnTo>
                    <a:pt x="218" y="145"/>
                  </a:lnTo>
                  <a:lnTo>
                    <a:pt x="363" y="182"/>
                  </a:lnTo>
                  <a:lnTo>
                    <a:pt x="508" y="217"/>
                  </a:lnTo>
                  <a:lnTo>
                    <a:pt x="648" y="292"/>
                  </a:lnTo>
                  <a:lnTo>
                    <a:pt x="757" y="400"/>
                  </a:lnTo>
                  <a:lnTo>
                    <a:pt x="867" y="400"/>
                  </a:lnTo>
                  <a:lnTo>
                    <a:pt x="1012" y="435"/>
                  </a:lnTo>
                  <a:lnTo>
                    <a:pt x="1152" y="510"/>
                  </a:lnTo>
                  <a:lnTo>
                    <a:pt x="1191" y="510"/>
                  </a:lnTo>
                  <a:lnTo>
                    <a:pt x="1191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76240" y="5732640"/>
              <a:ext cx="428760" cy="182520"/>
            </a:xfrm>
            <a:custGeom>
              <a:avLst/>
              <a:gdLst/>
              <a:ahLst/>
              <a:rect l="l" t="t" r="r" b="b"/>
              <a:pathLst>
                <a:path w="1192" h="507">
                  <a:moveTo>
                    <a:pt x="0" y="0"/>
                  </a:moveTo>
                  <a:lnTo>
                    <a:pt x="109" y="109"/>
                  </a:lnTo>
                  <a:lnTo>
                    <a:pt x="218" y="144"/>
                  </a:lnTo>
                  <a:lnTo>
                    <a:pt x="363" y="179"/>
                  </a:lnTo>
                  <a:lnTo>
                    <a:pt x="508" y="215"/>
                  </a:lnTo>
                  <a:lnTo>
                    <a:pt x="648" y="290"/>
                  </a:lnTo>
                  <a:lnTo>
                    <a:pt x="757" y="396"/>
                  </a:lnTo>
                  <a:lnTo>
                    <a:pt x="866" y="396"/>
                  </a:lnTo>
                  <a:lnTo>
                    <a:pt x="1011" y="431"/>
                  </a:lnTo>
                  <a:lnTo>
                    <a:pt x="1151" y="506"/>
                  </a:lnTo>
                  <a:lnTo>
                    <a:pt x="1191" y="506"/>
                  </a:lnTo>
                  <a:lnTo>
                    <a:pt x="1191" y="5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22240" y="5459400"/>
            <a:ext cx="576720" cy="302760"/>
            <a:chOff x="1722240" y="5459400"/>
            <a:chExt cx="576720" cy="302760"/>
          </a:xfrm>
        </p:grpSpPr>
        <p:sp>
          <p:nvSpPr>
            <p:cNvPr id="102" name=""/>
            <p:cNvSpPr/>
            <p:nvPr/>
          </p:nvSpPr>
          <p:spPr>
            <a:xfrm>
              <a:off x="1751040" y="5459400"/>
              <a:ext cx="51912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22240" y="5459400"/>
              <a:ext cx="576720" cy="30276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08320" y="5646600"/>
            <a:ext cx="639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75360" y="5603760"/>
            <a:ext cx="639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799320" y="5238720"/>
            <a:ext cx="444600" cy="703440"/>
            <a:chOff x="6799320" y="5238720"/>
            <a:chExt cx="444600" cy="703440"/>
          </a:xfrm>
        </p:grpSpPr>
        <p:sp>
          <p:nvSpPr>
            <p:cNvPr id="107" name=""/>
            <p:cNvSpPr/>
            <p:nvPr/>
          </p:nvSpPr>
          <p:spPr>
            <a:xfrm>
              <a:off x="6813720" y="5270400"/>
              <a:ext cx="14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42120" y="5423040"/>
              <a:ext cx="180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9320" y="5238720"/>
              <a:ext cx="428400" cy="184320"/>
            </a:xfrm>
            <a:custGeom>
              <a:avLst/>
              <a:gdLst/>
              <a:ahLst/>
              <a:rect l="l" t="t" r="r" b="b"/>
              <a:pathLst>
                <a:path w="1192" h="510">
                  <a:moveTo>
                    <a:pt x="0" y="0"/>
                  </a:moveTo>
                  <a:lnTo>
                    <a:pt x="108" y="110"/>
                  </a:lnTo>
                  <a:lnTo>
                    <a:pt x="218" y="144"/>
                  </a:lnTo>
                  <a:lnTo>
                    <a:pt x="363" y="181"/>
                  </a:lnTo>
                  <a:lnTo>
                    <a:pt x="508" y="216"/>
                  </a:lnTo>
                  <a:lnTo>
                    <a:pt x="648" y="292"/>
                  </a:lnTo>
                  <a:lnTo>
                    <a:pt x="757" y="400"/>
                  </a:lnTo>
                  <a:lnTo>
                    <a:pt x="866" y="400"/>
                  </a:lnTo>
                  <a:lnTo>
                    <a:pt x="1011" y="434"/>
                  </a:lnTo>
                  <a:lnTo>
                    <a:pt x="1152" y="509"/>
                  </a:lnTo>
                  <a:lnTo>
                    <a:pt x="1191" y="509"/>
                  </a:lnTo>
                  <a:lnTo>
                    <a:pt x="1191" y="5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11920" y="5759280"/>
              <a:ext cx="430200" cy="182880"/>
            </a:xfrm>
            <a:custGeom>
              <a:avLst/>
              <a:gdLst/>
              <a:ahLst/>
              <a:rect l="l" t="t" r="r" b="b"/>
              <a:pathLst>
                <a:path w="1193" h="509">
                  <a:moveTo>
                    <a:pt x="0" y="0"/>
                  </a:moveTo>
                  <a:lnTo>
                    <a:pt x="109" y="109"/>
                  </a:lnTo>
                  <a:lnTo>
                    <a:pt x="218" y="144"/>
                  </a:lnTo>
                  <a:lnTo>
                    <a:pt x="363" y="180"/>
                  </a:lnTo>
                  <a:lnTo>
                    <a:pt x="508" y="215"/>
                  </a:lnTo>
                  <a:lnTo>
                    <a:pt x="649" y="292"/>
                  </a:lnTo>
                  <a:lnTo>
                    <a:pt x="758" y="398"/>
                  </a:lnTo>
                  <a:lnTo>
                    <a:pt x="867" y="398"/>
                  </a:lnTo>
                  <a:lnTo>
                    <a:pt x="1012" y="433"/>
                  </a:lnTo>
                  <a:lnTo>
                    <a:pt x="1152" y="508"/>
                  </a:lnTo>
                  <a:lnTo>
                    <a:pt x="1192" y="508"/>
                  </a:lnTo>
                  <a:lnTo>
                    <a:pt x="1192" y="5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27520" y="5486400"/>
            <a:ext cx="2105280" cy="302760"/>
            <a:chOff x="6527520" y="5486400"/>
            <a:chExt cx="2105280" cy="302760"/>
          </a:xfrm>
        </p:grpSpPr>
        <p:sp>
          <p:nvSpPr>
            <p:cNvPr id="112" name=""/>
            <p:cNvSpPr/>
            <p:nvPr/>
          </p:nvSpPr>
          <p:spPr>
            <a:xfrm>
              <a:off x="6735600" y="5486400"/>
              <a:ext cx="168912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27520" y="5486400"/>
              <a:ext cx="2105280" cy="30276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TML (või XML või tex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1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12800" y="1197000"/>
            <a:ext cx="709920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eil peab olema programm (XSL protsessor) mis mõistab XSL keelt kas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 võtab sisse kaks fai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-   XML lähtetekst: seda hakatakse teisend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-   XSL tekst: reeglid teisendamis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 annab tulemuseks teisendatud fa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ljundfaili formaati saame ise määrata: HTML, XML, tek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 kasutamine: xsl protsessor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d brauseri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 IE sisaldab MS-i XSL protsessorit (nö opsüsteemi os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zilla/Netscape sisaldavad samuti XSL protsessori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ed (tüüpiliselt kasutatakse neid) sisaldavad reeglina ni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rea programmi xslt teisendust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ki nende teisenduste tegemiseks arendaja oma tarkvar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 kvaliteetseid vabavaralisi xsl protsessorei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bxs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 keelne teek, mis mh sisaldab xsltproc programmi (www.xmlsoft.or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ala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Apache projekti XSL protsessor, Javas (www.apache.or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James Clarki xslt protsessor Javas (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jclark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x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ichael Kay xslt protsessor Javas (users.iclway.co.uk/mhkay/saxon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2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